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907713" cy="77755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8C0-3FB6-49BE-AD52-A4F6DBF5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4680" y="315720"/>
            <a:ext cx="9820080" cy="1292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4680" y="1817640"/>
            <a:ext cx="982008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4680" y="4497120"/>
            <a:ext cx="982008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247-0CC3-4555-AB44-5E335D97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4680" y="315720"/>
            <a:ext cx="9820080" cy="1292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4680" y="1817640"/>
            <a:ext cx="479196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6760" y="1817640"/>
            <a:ext cx="479196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4680" y="4497120"/>
            <a:ext cx="479196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76760" y="4497120"/>
            <a:ext cx="479196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347-5E3A-48EA-9D63-13F7681B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4680" y="315720"/>
            <a:ext cx="9820080" cy="1292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4680" y="1817640"/>
            <a:ext cx="316188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4960" y="1817640"/>
            <a:ext cx="316188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85240" y="1817640"/>
            <a:ext cx="316188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4680" y="4497120"/>
            <a:ext cx="316188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4960" y="4497120"/>
            <a:ext cx="316188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85240" y="4497120"/>
            <a:ext cx="316188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60B-89A1-4B7C-90A5-B2DD99ED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4680" y="315720"/>
            <a:ext cx="9820080" cy="1292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4680" y="1817640"/>
            <a:ext cx="982008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596-83F8-4418-B4D4-11E2ED90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4680" y="315720"/>
            <a:ext cx="9820080" cy="1292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4680" y="1817640"/>
            <a:ext cx="9820080" cy="51292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653-B510-4CCF-8E40-D7356A8F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4680" y="315720"/>
            <a:ext cx="9820080" cy="1292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4680" y="1817640"/>
            <a:ext cx="4791960" cy="51292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76760" y="1817640"/>
            <a:ext cx="4791960" cy="51292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640-D8F6-48A6-8255-52931638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4680" y="315720"/>
            <a:ext cx="9820080" cy="1292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65F-7EA5-4BC7-B6B2-238C15DA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4680" y="315720"/>
            <a:ext cx="982008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0F5-96F7-47D1-81B9-1ED74AD6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4680" y="315720"/>
            <a:ext cx="9820080" cy="1292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4680" y="1817640"/>
            <a:ext cx="479196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76760" y="1817640"/>
            <a:ext cx="4791960" cy="51292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4680" y="4497120"/>
            <a:ext cx="479196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B75-7045-478D-8391-4123D64B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4680" y="315720"/>
            <a:ext cx="9820080" cy="1292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4680" y="1817640"/>
            <a:ext cx="4791960" cy="51292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6760" y="1817640"/>
            <a:ext cx="479196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76760" y="4497120"/>
            <a:ext cx="479196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69C-B5D4-491B-8942-D70A568D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4680" y="315720"/>
            <a:ext cx="9820080" cy="1292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4680" y="1817640"/>
            <a:ext cx="479196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6760" y="1817640"/>
            <a:ext cx="479196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4680" y="4497120"/>
            <a:ext cx="9820080" cy="24465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959-9073-4C57-A859-BCEE3D5D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4680" y="315720"/>
            <a:ext cx="9820080" cy="1292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4680" y="1817640"/>
            <a:ext cx="9820080" cy="51292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93840" indent="-3938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3254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2635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833480" indent="-2649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355840" indent="-2588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355840" indent="-2588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355840" indent="-2588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4680" y="7080120"/>
            <a:ext cx="2544480" cy="5414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27440" y="7080120"/>
            <a:ext cx="3454560" cy="5414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19560" y="7080120"/>
            <a:ext cx="2544840" cy="5414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 algn="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fld id="{2316C222-A84C-42F0-99C5-5027DF63F276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3:23:56Z</dcterms:created>
  <dc:creator>Saltmedia</dc:creator>
  <dc:description/>
  <dc:language>en-US</dc:language>
  <cp:lastModifiedBy>Saltmedia</cp:lastModifiedBy>
  <dcterms:modified xsi:type="dcterms:W3CDTF">2006-04-03T03:38:36Z</dcterms:modified>
  <cp:revision>5</cp:revision>
  <dc:subject/>
  <dc:title>Slide 1</dc:title>
</cp:coreProperties>
</file>