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16575" cy="38163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4D6-34DA-460A-88AA-C9595A5D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160" y="155520"/>
            <a:ext cx="5054400" cy="6336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160" y="892080"/>
            <a:ext cx="505440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1160" y="2206800"/>
            <a:ext cx="505440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19E-0AEF-474B-BC51-6410D514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160" y="155520"/>
            <a:ext cx="5054400" cy="6336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1160" y="892080"/>
            <a:ext cx="246636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71360" y="892080"/>
            <a:ext cx="246636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1160" y="2206800"/>
            <a:ext cx="246636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71360" y="2206800"/>
            <a:ext cx="246636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33F-5B51-4411-BEF9-6D67D31C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1160" y="155520"/>
            <a:ext cx="5054400" cy="6336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1160" y="892080"/>
            <a:ext cx="162720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90080" y="892080"/>
            <a:ext cx="162720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99000" y="892080"/>
            <a:ext cx="162720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1160" y="2206800"/>
            <a:ext cx="162720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90080" y="2206800"/>
            <a:ext cx="162720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99000" y="2206800"/>
            <a:ext cx="162720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149-15A1-438F-A6FF-32CD4EB2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1160" y="155520"/>
            <a:ext cx="5054400" cy="6336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1160" y="892080"/>
            <a:ext cx="5054400" cy="25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C2C-67AE-4D45-907E-0B84E0A9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1160" y="155520"/>
            <a:ext cx="5054400" cy="6336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1160" y="892080"/>
            <a:ext cx="5054400" cy="25164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4FC-B7C4-4BC9-81CE-4483CC1B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160" y="155520"/>
            <a:ext cx="5054400" cy="6336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1160" y="892080"/>
            <a:ext cx="2466360" cy="25164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71360" y="892080"/>
            <a:ext cx="2466360" cy="25164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DED-6CFB-4042-8380-2F89C1AC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160" y="155520"/>
            <a:ext cx="5054400" cy="6336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AAD-7E21-4E62-8019-231B7CC9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1160" y="155520"/>
            <a:ext cx="50544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1A6-5FDA-4F52-910B-A6918DEB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1160" y="155520"/>
            <a:ext cx="5054400" cy="6336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1160" y="892080"/>
            <a:ext cx="246636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71360" y="892080"/>
            <a:ext cx="2466360" cy="25164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1160" y="2206800"/>
            <a:ext cx="246636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AA9-6376-4029-8DA8-756088AF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160" y="155520"/>
            <a:ext cx="5054400" cy="6336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160" y="892080"/>
            <a:ext cx="2466360" cy="25164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71360" y="892080"/>
            <a:ext cx="246636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71360" y="2206800"/>
            <a:ext cx="246636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C1E-D2DF-4C5D-8C8D-E7756516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160" y="155520"/>
            <a:ext cx="5054400" cy="6336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160" y="892080"/>
            <a:ext cx="246636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71360" y="892080"/>
            <a:ext cx="246636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1160" y="2206800"/>
            <a:ext cx="5054400" cy="12002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BF0-1015-48EB-87A7-C48ED9E9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160" y="155520"/>
            <a:ext cx="5054400" cy="6336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1160" y="892080"/>
            <a:ext cx="5054400" cy="25164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marL="198360" indent="-198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5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60240" indent="-1317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25560" indent="-1335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189080" indent="-1303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189080" indent="-1303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189080" indent="-1303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160" y="3475080"/>
            <a:ext cx="1309680" cy="26496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Autofit/>
          </a:bodyPr>
          <a:lstStyle>
            <a:lvl1pPr indent="0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18800" y="3475080"/>
            <a:ext cx="1778040" cy="26496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Autofit/>
          </a:bodyPr>
          <a:lstStyle>
            <a:lvl1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25880" y="3475080"/>
            <a:ext cx="1309680" cy="26496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Autofit/>
          </a:bodyPr>
          <a:lstStyle>
            <a:lvl1pPr indent="0" algn="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fld id="{29F4B330-A0A7-41C1-B084-5A95751492E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3:23:56Z</dcterms:created>
  <dc:creator>Saltmedia</dc:creator>
  <dc:description/>
  <dc:language>en-US</dc:language>
  <cp:lastModifiedBy>Saltmedia</cp:lastModifiedBy>
  <dcterms:modified xsi:type="dcterms:W3CDTF">2006-04-03T03:40:32Z</dcterms:modified>
  <cp:revision>7</cp:revision>
  <dc:subject/>
  <dc:title>Slide 1</dc:title>
</cp:coreProperties>
</file>