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012950" cy="2732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400-1B73-4C93-998F-E3923918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181116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720" y="1580040"/>
            <a:ext cx="181116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5DC-7787-4114-A01E-74672330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8160" y="63792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720" y="158004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28160" y="158004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09F-6DD6-4258-BF58-505907A9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58284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2080" y="637920"/>
            <a:ext cx="58284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24440" y="637920"/>
            <a:ext cx="58284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720" y="1580040"/>
            <a:ext cx="58284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2080" y="1580040"/>
            <a:ext cx="58284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24440" y="1580040"/>
            <a:ext cx="58284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A0C-4D7E-4C01-A17B-ECE487BC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720" y="637920"/>
            <a:ext cx="181116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D91-3708-49C2-BE0E-135B5BD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1811160" cy="18032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481-E55B-4C1D-A111-36615429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883800" cy="18032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28160" y="637920"/>
            <a:ext cx="883800" cy="18032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A68-7B28-468D-BA80-F6001EE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DFD-3CF1-4D20-B96E-151B492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720" y="110880"/>
            <a:ext cx="18111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0C2-6283-4210-A996-9A6C4C53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28160" y="637920"/>
            <a:ext cx="883800" cy="18032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720" y="158004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143-E1A9-4331-B5B0-C59851C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883800" cy="18032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28160" y="63792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8160" y="158004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F30-AA9F-4467-8D48-3231F83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720" y="28800"/>
            <a:ext cx="1811160" cy="61812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720" y="63792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28160" y="637920"/>
            <a:ext cx="88380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720" y="1580040"/>
            <a:ext cx="1811160" cy="8600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84B-21E2-497F-BAC6-0E307E7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720" y="110880"/>
            <a:ext cx="1811160" cy="45396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720" y="637920"/>
            <a:ext cx="1811160" cy="180324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73000"/>
          </a:bodyPr>
          <a:p>
            <a:pPr marL="106560" indent="-106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0400" indent="-88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70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499320" indent="-720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640800" indent="-694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640800" indent="-694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640800" indent="-694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720" y="2489040"/>
            <a:ext cx="469800" cy="1908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6880" y="2489040"/>
            <a:ext cx="636840" cy="1908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1080" y="2489040"/>
            <a:ext cx="469800" cy="1908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DC58-C90F-406D-96B4-35C76A6540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Michael</cp:lastModifiedBy>
  <dcterms:modified xsi:type="dcterms:W3CDTF">2009-09-15T01:57:23Z</dcterms:modified>
  <cp:revision>9</cp:revision>
  <dc:subject/>
  <dc:title>Slide 1</dc:title>
</cp:coreProperties>
</file>