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455988" cy="2192338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A3DB-DD2C-4237-9E01-297E66FA5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3160" y="88920"/>
            <a:ext cx="3109680" cy="36504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ctr">
            <a:noAutofit/>
          </a:bodyPr>
          <a:p>
            <a:pPr indent="0" algn="ctr">
              <a:buNone/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3160" y="512640"/>
            <a:ext cx="3109680" cy="68976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3160" y="1268280"/>
            <a:ext cx="3109680" cy="68976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A0AE-4E42-4A81-9E6D-A3DF3801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3160" y="88920"/>
            <a:ext cx="3109680" cy="36504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ctr">
            <a:noAutofit/>
          </a:bodyPr>
          <a:p>
            <a:pPr indent="0" algn="ctr">
              <a:buNone/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3160" y="512640"/>
            <a:ext cx="1517400" cy="68976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66880" y="512640"/>
            <a:ext cx="1517400" cy="68976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3160" y="1268280"/>
            <a:ext cx="1517400" cy="68976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766880" y="1268280"/>
            <a:ext cx="1517400" cy="68976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8385-A4A8-4EA0-8E83-0CFA626AD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3160" y="88920"/>
            <a:ext cx="3109680" cy="36504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ctr">
            <a:noAutofit/>
          </a:bodyPr>
          <a:p>
            <a:pPr indent="0" algn="ctr">
              <a:buNone/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3160" y="512640"/>
            <a:ext cx="1001160" cy="68976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24720" y="512640"/>
            <a:ext cx="1001160" cy="68976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76280" y="512640"/>
            <a:ext cx="1001160" cy="68976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3160" y="1268280"/>
            <a:ext cx="1001160" cy="68976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24720" y="1268280"/>
            <a:ext cx="1001160" cy="68976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276280" y="1268280"/>
            <a:ext cx="1001160" cy="68976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C4C0-BF41-41C2-B677-479E96ABD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3160" y="88920"/>
            <a:ext cx="3109680" cy="36504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ctr">
            <a:noAutofit/>
          </a:bodyPr>
          <a:p>
            <a:pPr indent="0" algn="ctr">
              <a:buNone/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3160" y="512640"/>
            <a:ext cx="3109680" cy="144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C341-3D13-4355-B088-6FE18432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3160" y="88920"/>
            <a:ext cx="3109680" cy="36504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ctr">
            <a:noAutofit/>
          </a:bodyPr>
          <a:p>
            <a:pPr indent="0" algn="ctr">
              <a:buNone/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3160" y="512640"/>
            <a:ext cx="3109680" cy="144648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223B-2023-452F-B92D-FC4D1116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3160" y="88920"/>
            <a:ext cx="3109680" cy="36504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ctr">
            <a:noAutofit/>
          </a:bodyPr>
          <a:p>
            <a:pPr indent="0" algn="ctr">
              <a:buNone/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3160" y="512640"/>
            <a:ext cx="1517400" cy="144648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766880" y="512640"/>
            <a:ext cx="1517400" cy="144648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D474-66A3-425F-A6C4-74FF883E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3160" y="88920"/>
            <a:ext cx="3109680" cy="36504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ctr">
            <a:noAutofit/>
          </a:bodyPr>
          <a:p>
            <a:pPr indent="0" algn="ctr">
              <a:buNone/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9784-6795-4D7B-B54C-76B65887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3160" y="88920"/>
            <a:ext cx="3109680" cy="16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11A2-D714-43A7-A33E-79050021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3160" y="88920"/>
            <a:ext cx="3109680" cy="36504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ctr">
            <a:noAutofit/>
          </a:bodyPr>
          <a:p>
            <a:pPr indent="0" algn="ctr">
              <a:buNone/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3160" y="512640"/>
            <a:ext cx="1517400" cy="68976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766880" y="512640"/>
            <a:ext cx="1517400" cy="144648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3160" y="1268280"/>
            <a:ext cx="1517400" cy="68976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554D-B460-4480-A8C3-B7FE6E5A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3160" y="88920"/>
            <a:ext cx="3109680" cy="36504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ctr">
            <a:noAutofit/>
          </a:bodyPr>
          <a:p>
            <a:pPr indent="0" algn="ctr">
              <a:buNone/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3160" y="512640"/>
            <a:ext cx="1517400" cy="144648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766880" y="512640"/>
            <a:ext cx="1517400" cy="68976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66880" y="1268280"/>
            <a:ext cx="1517400" cy="68976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29D3-C36F-471E-8DE9-3F8B9A16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3160" y="88920"/>
            <a:ext cx="3109680" cy="36504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ctr">
            <a:noAutofit/>
          </a:bodyPr>
          <a:p>
            <a:pPr indent="0" algn="ctr">
              <a:buNone/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3160" y="512640"/>
            <a:ext cx="1517400" cy="68976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766880" y="512640"/>
            <a:ext cx="1517400" cy="68976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3160" y="1268280"/>
            <a:ext cx="3109680" cy="68976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6CA8-0296-4078-AD21-145FB0B1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3160" y="88920"/>
            <a:ext cx="3109680" cy="36504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ctr">
            <a:noAutofit/>
          </a:bodyPr>
          <a:p>
            <a:pPr indent="0" algn="ctr">
              <a:buNone/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3160" y="512640"/>
            <a:ext cx="3109680" cy="144648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 fontScale="79000"/>
          </a:bodyPr>
          <a:p>
            <a:pPr marL="115200" indent="-115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9480" indent="-95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84840" indent="-763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540360" indent="-777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693360" indent="-7524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693360" indent="-7524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693360" indent="-7524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2800" y="1996920"/>
            <a:ext cx="804600" cy="15264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81160" y="1996920"/>
            <a:ext cx="1093680" cy="15264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477880" y="1996920"/>
            <a:ext cx="804600" cy="15264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D0EF-9EC9-46A0-9F37-747E9AD7907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03:23:56Z</dcterms:created>
  <dc:creator>Saltmedia</dc:creator>
  <dc:description/>
  <dc:language>en-US</dc:language>
  <cp:lastModifiedBy>Michael</cp:lastModifiedBy>
  <dcterms:modified xsi:type="dcterms:W3CDTF">2009-09-15T01:57:52Z</dcterms:modified>
  <cp:revision>10</cp:revision>
  <dc:subject/>
  <dc:title>Slide 1</dc:title>
</cp:coreProperties>
</file>