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00450" cy="23399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2DD-A7A8-4D76-9C4A-A61062CA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95400"/>
            <a:ext cx="3241800" cy="38880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545760"/>
            <a:ext cx="324180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920" y="1352520"/>
            <a:ext cx="324180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F0D-FAAA-4D78-9499-637448D2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95400"/>
            <a:ext cx="3241800" cy="38880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545760"/>
            <a:ext cx="15818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0320" y="545760"/>
            <a:ext cx="15818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920" y="1352520"/>
            <a:ext cx="15818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0320" y="1352520"/>
            <a:ext cx="15818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1DC-C933-4389-8BE7-C96107DA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95400"/>
            <a:ext cx="3241800" cy="38880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545760"/>
            <a:ext cx="10436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75120" y="545760"/>
            <a:ext cx="10436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1320" y="545760"/>
            <a:ext cx="10436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920" y="1352520"/>
            <a:ext cx="10436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75120" y="1352520"/>
            <a:ext cx="10436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1320" y="1352520"/>
            <a:ext cx="10436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DF2-3E25-43E8-990B-AA8B38F8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920" y="95400"/>
            <a:ext cx="3241800" cy="38880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920" y="54576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D2F-E15C-4DA0-8061-B36B75C5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95400"/>
            <a:ext cx="3241800" cy="38880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54576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DF6-3501-4267-91DF-644A6584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95400"/>
            <a:ext cx="3241800" cy="38880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920" y="545760"/>
            <a:ext cx="1581840" cy="15447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0320" y="545760"/>
            <a:ext cx="1581840" cy="15447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954-4F1F-4F51-9F02-56E4611E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95400"/>
            <a:ext cx="3241800" cy="38880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0E5-00A3-40D2-865C-87456FB2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8920" y="95400"/>
            <a:ext cx="3241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ECE-1400-485C-B9E9-06901A74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95400"/>
            <a:ext cx="3241800" cy="38880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545760"/>
            <a:ext cx="15818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0320" y="545760"/>
            <a:ext cx="1581840" cy="15447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920" y="1352520"/>
            <a:ext cx="15818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E02-B3AD-4627-AC06-5DFB52DB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95400"/>
            <a:ext cx="3241800" cy="38880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545760"/>
            <a:ext cx="1581840" cy="15447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0320" y="545760"/>
            <a:ext cx="15818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0320" y="1352520"/>
            <a:ext cx="15818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8DA-9F03-4745-993C-C27BE653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95400"/>
            <a:ext cx="3241800" cy="38880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545760"/>
            <a:ext cx="15818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0320" y="545760"/>
            <a:ext cx="158184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1352520"/>
            <a:ext cx="3241800" cy="7365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B15-56D1-4648-9C97-0115C9A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95400"/>
            <a:ext cx="3241800" cy="38880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54576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rmAutofit/>
          </a:bodyPr>
          <a:p>
            <a:pPr marL="123840" indent="-123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1033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82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82480" indent="-838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747720" indent="-810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747720" indent="-810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747720" indent="-810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1920"/>
                <a:tab algn="l" pos="663480"/>
                <a:tab algn="l" pos="995400"/>
                <a:tab algn="l" pos="1327320"/>
                <a:tab algn="l" pos="1658880"/>
                <a:tab algn="l" pos="1990800"/>
                <a:tab algn="l" pos="2322360"/>
                <a:tab algn="l" pos="2654280"/>
                <a:tab algn="l" pos="2986200"/>
                <a:tab algn="l" pos="3317760"/>
                <a:tab algn="l" pos="3649680"/>
                <a:tab algn="l" pos="3981600"/>
                <a:tab algn="l" pos="4313160"/>
                <a:tab algn="l" pos="4645080"/>
                <a:tab algn="l" pos="4976640"/>
                <a:tab algn="l" pos="5308560"/>
                <a:tab algn="l" pos="5640480"/>
                <a:tab algn="l" pos="5972040"/>
                <a:tab algn="l" pos="6303960"/>
                <a:tab algn="l" pos="663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8920" y="2130480"/>
            <a:ext cx="841320" cy="16344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30480" y="2130480"/>
            <a:ext cx="1139760" cy="16344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79400" y="2130480"/>
            <a:ext cx="841320" cy="163440"/>
          </a:xfrm>
          <a:prstGeom prst="rect">
            <a:avLst/>
          </a:prstGeom>
          <a:noFill/>
          <a:ln w="0">
            <a:noFill/>
          </a:ln>
        </p:spPr>
        <p:txBody>
          <a:bodyPr lIns="33480" rIns="3348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0A93-5C58-4084-A894-82F9C3A2A510}" type="slidenum">
              <a:rPr b="0" lang="en-AU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0:02:52Z</dcterms:created>
  <dc:creator>Design1</dc:creator>
  <dc:description/>
  <dc:language>en-US</dc:language>
  <cp:lastModifiedBy>Design1</cp:lastModifiedBy>
  <dcterms:modified xsi:type="dcterms:W3CDTF">2008-11-25T00:05:24Z</dcterms:modified>
  <cp:revision>1</cp:revision>
  <dc:subject/>
  <dc:title>Slide 1</dc:title>
</cp:coreProperties>
</file>