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2650" cy="334803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314-CE29-461B-B183-5BDDDA1C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1800" y="50760"/>
            <a:ext cx="6508800" cy="727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1800" y="782640"/>
            <a:ext cx="650880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1800" y="1935360"/>
            <a:ext cx="650880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38A-6E0E-4E08-ADC8-8AD3B761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1800" y="50760"/>
            <a:ext cx="6508800" cy="727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1800" y="782640"/>
            <a:ext cx="317628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7200" y="782640"/>
            <a:ext cx="317628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1800" y="1935360"/>
            <a:ext cx="317628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7200" y="1935360"/>
            <a:ext cx="317628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D13-854D-4625-8872-2873A526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1800" y="50760"/>
            <a:ext cx="6508800" cy="727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1800" y="782640"/>
            <a:ext cx="209556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62480" y="782640"/>
            <a:ext cx="209556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63160" y="782640"/>
            <a:ext cx="209556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1800" y="1935360"/>
            <a:ext cx="209556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62480" y="1935360"/>
            <a:ext cx="209556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63160" y="1935360"/>
            <a:ext cx="209556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3C0-1404-4ABE-89B2-71AC22DF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1800" y="50760"/>
            <a:ext cx="6508800" cy="727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1800" y="782640"/>
            <a:ext cx="6508800" cy="22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495-35CA-4A78-9CBD-88CBF5C8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1800" y="50760"/>
            <a:ext cx="6508800" cy="727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1800" y="782640"/>
            <a:ext cx="6508800" cy="2206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DFC9-253F-4256-B768-94FB840A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800" y="50760"/>
            <a:ext cx="6508800" cy="727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1800" y="782640"/>
            <a:ext cx="3176280" cy="2206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7200" y="782640"/>
            <a:ext cx="3176280" cy="2206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23F-90F6-4E8E-87A7-148857E0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1800" y="50760"/>
            <a:ext cx="6508800" cy="727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996-68BC-4556-8AA4-438904AF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1800" y="136440"/>
            <a:ext cx="650880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EFD-3FC1-4419-8E60-D8A3CA88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800" y="50760"/>
            <a:ext cx="6508800" cy="727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1800" y="782640"/>
            <a:ext cx="317628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7200" y="782640"/>
            <a:ext cx="3176280" cy="2206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1800" y="1935360"/>
            <a:ext cx="317628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FAE-4A1E-4DD6-A2D5-5E9D3F21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1800" y="50760"/>
            <a:ext cx="6508800" cy="727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1800" y="782640"/>
            <a:ext cx="3176280" cy="2206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7200" y="782640"/>
            <a:ext cx="317628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7200" y="1935360"/>
            <a:ext cx="317628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FCC-425C-46AD-8965-CCB94F1E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1800" y="50760"/>
            <a:ext cx="6508800" cy="727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1800" y="782640"/>
            <a:ext cx="317628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7200" y="782640"/>
            <a:ext cx="317628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1800" y="1935360"/>
            <a:ext cx="6508800" cy="1052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CD9-AC52-43E3-ABB5-2A0F0E8C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1800" y="136440"/>
            <a:ext cx="6508800" cy="5558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1800" y="782640"/>
            <a:ext cx="6508800" cy="2206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 fontScale="54000"/>
          </a:bodyPr>
          <a:p>
            <a:pPr marL="176400" indent="-1764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80520" indent="-1458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587880" indent="-118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823680" indent="-1180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058400" indent="-11556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058400" indent="-11556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058400" indent="-11556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1800" y="3046320"/>
            <a:ext cx="1686240" cy="233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1400" y="3046320"/>
            <a:ext cx="2289240" cy="233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4360" y="3046320"/>
            <a:ext cx="1685880" cy="233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0F3B-70D4-4477-82E7-C5E37C35A53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3:23:56Z</dcterms:created>
  <dc:creator>Saltmedia</dc:creator>
  <dc:description/>
  <dc:language>en-US</dc:language>
  <cp:lastModifiedBy>Michael</cp:lastModifiedBy>
  <dcterms:modified xsi:type="dcterms:W3CDTF">2009-09-15T01:56:27Z</dcterms:modified>
  <cp:revision>8</cp:revision>
  <dc:subject/>
  <dc:title>Slide 1</dc:title>
</cp:coreProperties>
</file>