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5575" cy="377983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8E9E-032D-48EB-83BE-340E92B6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54080"/>
            <a:ext cx="6999480" cy="62712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883800"/>
            <a:ext cx="6999480" cy="11880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2185200"/>
            <a:ext cx="6999480" cy="11880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14E-ED08-48BB-A30D-C2114232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54080"/>
            <a:ext cx="6999480" cy="62712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883800"/>
            <a:ext cx="3415680" cy="11880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5120" y="883800"/>
            <a:ext cx="3415680" cy="11880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2185200"/>
            <a:ext cx="3415680" cy="11880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5120" y="2185200"/>
            <a:ext cx="3415680" cy="11880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411E-3427-4759-A727-1D497F03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54080"/>
            <a:ext cx="6999480" cy="62712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883800"/>
            <a:ext cx="2253600" cy="11880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080" y="883800"/>
            <a:ext cx="2253600" cy="11880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21720" y="883800"/>
            <a:ext cx="2253600" cy="11880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2185200"/>
            <a:ext cx="2253600" cy="11880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080" y="2185200"/>
            <a:ext cx="2253600" cy="11880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21720" y="2185200"/>
            <a:ext cx="2253600" cy="11880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779-A45F-417D-90A1-06477C25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54080"/>
            <a:ext cx="6999480" cy="62712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883800"/>
            <a:ext cx="699948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33D6-2028-4338-A79B-E75F35B0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54080"/>
            <a:ext cx="6999480" cy="62712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883800"/>
            <a:ext cx="6999480" cy="24908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856-12A7-4708-A9CF-37F9DC7E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54080"/>
            <a:ext cx="6999480" cy="62712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883800"/>
            <a:ext cx="3415680" cy="24908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5120" y="883800"/>
            <a:ext cx="3415680" cy="24908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86F-CA25-48B6-BA36-D2656031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54080"/>
            <a:ext cx="6999480" cy="62712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CEF-09F5-4F59-80A1-F9B05FCF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54080"/>
            <a:ext cx="69994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256-AC4D-4257-A2A1-C062D179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54080"/>
            <a:ext cx="6999480" cy="62712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883800"/>
            <a:ext cx="3415680" cy="11880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5120" y="883800"/>
            <a:ext cx="3415680" cy="24908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2185200"/>
            <a:ext cx="3415680" cy="11880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0173-0F16-4B39-8CE1-823A5675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54080"/>
            <a:ext cx="6999480" cy="62712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883800"/>
            <a:ext cx="3415680" cy="24908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5120" y="883800"/>
            <a:ext cx="3415680" cy="11880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5120" y="2185200"/>
            <a:ext cx="3415680" cy="11880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4D9-CDB1-48AB-A6A0-CBDDB537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54080"/>
            <a:ext cx="6999480" cy="62712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883800"/>
            <a:ext cx="3415680" cy="11880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5120" y="883800"/>
            <a:ext cx="3415680" cy="11880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2185200"/>
            <a:ext cx="6999480" cy="118800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943-4103-472C-AF91-10325F2F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54080"/>
            <a:ext cx="6999480" cy="62712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883800"/>
            <a:ext cx="6999480" cy="249084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rmAutofit/>
          </a:bodyPr>
          <a:p>
            <a:pPr marL="198360" indent="-1983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5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60240" indent="-1317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925560" indent="-1335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189080" indent="-1303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189080" indent="-1303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189080" indent="-1303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3441600"/>
            <a:ext cx="1812960" cy="26208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Autofit/>
          </a:bodyPr>
          <a:lstStyle>
            <a:lvl1pPr indent="0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7160" y="3441600"/>
            <a:ext cx="2462040" cy="26208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Autofit/>
          </a:bodyPr>
          <a:lstStyle>
            <a:lvl1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5320" y="3441600"/>
            <a:ext cx="1812960" cy="262080"/>
          </a:xfrm>
          <a:prstGeom prst="rect">
            <a:avLst/>
          </a:prstGeom>
          <a:noFill/>
          <a:ln w="0">
            <a:noFill/>
          </a:ln>
        </p:spPr>
        <p:txBody>
          <a:bodyPr lIns="52920" rIns="52920" tIns="26280" bIns="26280" anchor="t">
            <a:noAutofit/>
          </a:bodyPr>
          <a:lstStyle>
            <a:lvl1pPr indent="0" algn="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fld id="{382DF8F2-157E-4713-9E80-E195D6A7AA4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3:23:56Z</dcterms:created>
  <dc:creator>Saltmedia</dc:creator>
  <dc:description/>
  <dc:language>en-US</dc:language>
  <cp:lastModifiedBy>Saltmedia</cp:lastModifiedBy>
  <dcterms:modified xsi:type="dcterms:W3CDTF">2006-04-03T04:10:29Z</dcterms:modified>
  <cp:revision>8</cp:revision>
  <dc:subject/>
  <dc:title>Slide 1</dc:title>
</cp:coreProperties>
</file>