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311525" cy="21605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6E69-8218-4D0B-8C80-5803F4B6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880" y="87480"/>
            <a:ext cx="2981160" cy="35856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ctr">
            <a:noAutofit/>
          </a:bodyPr>
          <a:p>
            <a:pPr indent="0" algn="ctr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880" y="504720"/>
            <a:ext cx="2981160" cy="67968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880" y="1249200"/>
            <a:ext cx="2981160" cy="67968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D93F-2607-40FA-886C-A6BEEC68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880" y="87480"/>
            <a:ext cx="2981160" cy="35856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ctr">
            <a:noAutofit/>
          </a:bodyPr>
          <a:p>
            <a:pPr indent="0" algn="ctr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880" y="504720"/>
            <a:ext cx="1454760" cy="67968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92720" y="504720"/>
            <a:ext cx="1454760" cy="67968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880" y="1249200"/>
            <a:ext cx="1454760" cy="67968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92720" y="1249200"/>
            <a:ext cx="1454760" cy="67968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6778-7422-4392-8BAE-937E2175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880" y="87480"/>
            <a:ext cx="2981160" cy="35856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ctr">
            <a:noAutofit/>
          </a:bodyPr>
          <a:p>
            <a:pPr indent="0" algn="ctr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880" y="504720"/>
            <a:ext cx="959760" cy="67968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2880" y="504720"/>
            <a:ext cx="959760" cy="67968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81240" y="504720"/>
            <a:ext cx="959760" cy="67968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880" y="1249200"/>
            <a:ext cx="959760" cy="67968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2880" y="1249200"/>
            <a:ext cx="959760" cy="67968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81240" y="1249200"/>
            <a:ext cx="959760" cy="67968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CF90-E6E1-4EA8-A229-6BCA844F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880" y="87480"/>
            <a:ext cx="2981160" cy="35856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ctr">
            <a:noAutofit/>
          </a:bodyPr>
          <a:p>
            <a:pPr indent="0" algn="ctr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880" y="504720"/>
            <a:ext cx="298116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70CF-13FF-4820-A3E1-FA77D6E8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880" y="87480"/>
            <a:ext cx="2981160" cy="35856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ctr">
            <a:noAutofit/>
          </a:bodyPr>
          <a:p>
            <a:pPr indent="0" algn="ctr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880" y="504720"/>
            <a:ext cx="2981160" cy="142560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3A8B-EB82-46AE-B9E2-C82C3AAD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880" y="87480"/>
            <a:ext cx="2981160" cy="35856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ctr">
            <a:noAutofit/>
          </a:bodyPr>
          <a:p>
            <a:pPr indent="0" algn="ctr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880" y="504720"/>
            <a:ext cx="1454760" cy="142560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92720" y="504720"/>
            <a:ext cx="1454760" cy="142560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E431-7CD6-4016-A76E-4F44BCA7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880" y="87480"/>
            <a:ext cx="2981160" cy="35856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ctr">
            <a:noAutofit/>
          </a:bodyPr>
          <a:p>
            <a:pPr indent="0" algn="ctr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A14B-0810-4A42-ACDB-E8142CA3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880" y="87480"/>
            <a:ext cx="298116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CECF-45C5-47FE-B74E-D5B749F7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880" y="87480"/>
            <a:ext cx="2981160" cy="35856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ctr">
            <a:noAutofit/>
          </a:bodyPr>
          <a:p>
            <a:pPr indent="0" algn="ctr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880" y="504720"/>
            <a:ext cx="1454760" cy="67968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92720" y="504720"/>
            <a:ext cx="1454760" cy="142560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880" y="1249200"/>
            <a:ext cx="1454760" cy="67968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6B7E-B4A6-43F7-A38B-CBFBD5FF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880" y="87480"/>
            <a:ext cx="2981160" cy="35856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ctr">
            <a:noAutofit/>
          </a:bodyPr>
          <a:p>
            <a:pPr indent="0" algn="ctr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880" y="504720"/>
            <a:ext cx="1454760" cy="142560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92720" y="504720"/>
            <a:ext cx="1454760" cy="67968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92720" y="1249200"/>
            <a:ext cx="1454760" cy="67968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2AE2-E37F-453D-9FAB-E1F81C54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880" y="87480"/>
            <a:ext cx="2981160" cy="35856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ctr">
            <a:noAutofit/>
          </a:bodyPr>
          <a:p>
            <a:pPr indent="0" algn="ctr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880" y="504720"/>
            <a:ext cx="1454760" cy="67968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92720" y="504720"/>
            <a:ext cx="1454760" cy="67968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880" y="1249200"/>
            <a:ext cx="2981160" cy="67968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F5C3-07DF-4465-9437-DE6A7987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880" y="87480"/>
            <a:ext cx="2981160" cy="35856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ctr">
            <a:noAutofit/>
          </a:bodyPr>
          <a:p>
            <a:pPr indent="0" algn="ctr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880" y="504720"/>
            <a:ext cx="2981160" cy="142560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t">
            <a:normAutofit/>
          </a:bodyPr>
          <a:p>
            <a:pPr marL="117360" indent="-11736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54160" indent="-9864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90600" indent="-7776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547560" indent="-7920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703440" indent="-7812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703440" indent="-7812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703440" indent="-7812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880" y="1966680"/>
            <a:ext cx="772920" cy="15084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t">
            <a:noAutofit/>
          </a:bodyPr>
          <a:lstStyle>
            <a:lvl1pPr indent="0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31480" y="1966680"/>
            <a:ext cx="1047960" cy="15084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t">
            <a:noAutofit/>
          </a:bodyPr>
          <a:lstStyle>
            <a:lvl1pPr indent="0" algn="ctr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73120" y="1966680"/>
            <a:ext cx="772920" cy="150840"/>
          </a:xfrm>
          <a:prstGeom prst="rect">
            <a:avLst/>
          </a:prstGeom>
          <a:noFill/>
          <a:ln w="0">
            <a:noFill/>
          </a:ln>
        </p:spPr>
        <p:txBody>
          <a:bodyPr lIns="31320" rIns="31320" tIns="15480" bIns="15480" anchor="t">
            <a:noAutofit/>
          </a:bodyPr>
          <a:lstStyle>
            <a:lvl1pPr indent="0" algn="r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12840"/>
                <a:tab algn="l" pos="625320"/>
                <a:tab algn="l" pos="938160"/>
                <a:tab algn="l" pos="1251000"/>
                <a:tab algn="l" pos="1563840"/>
                <a:tab algn="l" pos="1876320"/>
                <a:tab algn="l" pos="2189160"/>
                <a:tab algn="l" pos="2502000"/>
                <a:tab algn="l" pos="2814480"/>
                <a:tab algn="l" pos="3127320"/>
                <a:tab algn="l" pos="3440160"/>
                <a:tab algn="l" pos="3753000"/>
                <a:tab algn="l" pos="4065480"/>
                <a:tab algn="l" pos="4378320"/>
                <a:tab algn="l" pos="4691160"/>
                <a:tab algn="l" pos="5003640"/>
                <a:tab algn="l" pos="5316480"/>
                <a:tab algn="l" pos="5629320"/>
                <a:tab algn="l" pos="5942160"/>
                <a:tab algn="l" pos="6254640"/>
              </a:tabLst>
            </a:pPr>
            <a:fld id="{409FD8E4-F622-4B35-B091-FC7165D5552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3:23:56Z</dcterms:created>
  <dc:creator>Saltmedia</dc:creator>
  <dc:description/>
  <dc:language>en-US</dc:language>
  <cp:lastModifiedBy>Saltmedia</cp:lastModifiedBy>
  <dcterms:modified xsi:type="dcterms:W3CDTF">2006-04-03T03:27:11Z</dcterms:modified>
  <cp:revision>1</cp:revision>
  <dc:subject/>
  <dc:title>Slide 1</dc:title>
</cp:coreProperties>
</file>