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19863" cy="90360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DB3-F940-42F7-B1E8-630761C4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5080" y="2111400"/>
            <a:ext cx="586908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5080" y="5223600"/>
            <a:ext cx="586908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F33-D5D9-443D-A16E-A6563F3C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5080" y="21114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32520" y="21114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5080" y="52236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32520" y="52236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AA4-2100-4310-990A-248C8493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5080" y="2111400"/>
            <a:ext cx="188964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09760" y="2111400"/>
            <a:ext cx="188964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94080" y="2111400"/>
            <a:ext cx="188964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5080" y="5223600"/>
            <a:ext cx="188964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09760" y="5223600"/>
            <a:ext cx="188964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94080" y="5223600"/>
            <a:ext cx="188964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BD6-0FEB-464C-9FBB-FE219269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5080" y="2111400"/>
            <a:ext cx="5869080" cy="59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AC9-883B-45FC-B162-54E6482F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5080" y="2111400"/>
            <a:ext cx="5869080" cy="5958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536-8626-4317-BABB-0568402A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5080" y="2111400"/>
            <a:ext cx="2863800" cy="5958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32520" y="2111400"/>
            <a:ext cx="2863800" cy="5958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639-9B83-4858-B87A-17968F91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B80-4218-41FE-82D1-1D0430BB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5080" y="366480"/>
            <a:ext cx="5869080" cy="69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228-83B0-4EB9-8DE2-DA44F2AE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5080" y="21114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32520" y="2111400"/>
            <a:ext cx="2863800" cy="5958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5080" y="52236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4D4-FF70-4B7B-A660-538A269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5080" y="2111400"/>
            <a:ext cx="2863800" cy="5958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32520" y="21114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32520" y="52236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9E0-B568-4020-94E4-3F5DE00B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5080" y="21114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32520" y="2111400"/>
            <a:ext cx="286380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5080" y="5223600"/>
            <a:ext cx="5869080" cy="2841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0B7-FCE4-4215-A335-A8A85C6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5080" y="366480"/>
            <a:ext cx="5869080" cy="1501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5080" y="2111400"/>
            <a:ext cx="5869080" cy="5958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70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218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2568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560" indent="-21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560" indent="-21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560" indent="-21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5080" y="8224920"/>
            <a:ext cx="1521000" cy="630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26960" y="8224920"/>
            <a:ext cx="2065320" cy="630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73160" y="8224920"/>
            <a:ext cx="1521000" cy="630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D22D-7FF6-4BDC-83A6-CEDE8D3B6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23:56Z</dcterms:created>
  <dc:creator>Saltmedia</dc:creator>
  <dc:description/>
  <dc:language>en-US</dc:language>
  <cp:lastModifiedBy>Michael</cp:lastModifiedBy>
  <dcterms:modified xsi:type="dcterms:W3CDTF">2009-09-15T01:54:48Z</dcterms:modified>
  <cp:revision>7</cp:revision>
  <dc:subject/>
  <dc:title>Slide 1</dc:title>
</cp:coreProperties>
</file>