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5575" cy="109077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4B74-84F5-460E-B6E2-D6F00AC4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42800"/>
            <a:ext cx="6999480" cy="18129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2549160"/>
            <a:ext cx="69994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6307200"/>
            <a:ext cx="69994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3BDF-B672-4399-A4FA-C56CF120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42800"/>
            <a:ext cx="6999480" cy="18129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2549160"/>
            <a:ext cx="34156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5120" y="2549160"/>
            <a:ext cx="34156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6307200"/>
            <a:ext cx="34156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5120" y="6307200"/>
            <a:ext cx="34156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BC6-D9A6-46E9-AE9C-6626B797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42800"/>
            <a:ext cx="6999480" cy="18129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2549160"/>
            <a:ext cx="225360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55080" y="2549160"/>
            <a:ext cx="225360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21720" y="2549160"/>
            <a:ext cx="225360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6307200"/>
            <a:ext cx="225360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55080" y="6307200"/>
            <a:ext cx="225360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21720" y="6307200"/>
            <a:ext cx="225360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2E28-88FD-4101-9974-5272825F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42800"/>
            <a:ext cx="6999480" cy="18129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2549160"/>
            <a:ext cx="6999480" cy="71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F0B-78DC-4AB2-B8B4-7011D7DB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42800"/>
            <a:ext cx="6999480" cy="18129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2549160"/>
            <a:ext cx="6999480" cy="7194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864-CC1C-4F8B-9BCE-459CCE07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42800"/>
            <a:ext cx="6999480" cy="18129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2549160"/>
            <a:ext cx="3415680" cy="7194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5120" y="2549160"/>
            <a:ext cx="3415680" cy="7194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146D-9C84-4062-B39B-47F9FE79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42800"/>
            <a:ext cx="6999480" cy="18129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333-19E4-4944-8274-18D863E8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42800"/>
            <a:ext cx="6999480" cy="84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E37-5710-4D4B-BA62-67BBB6B2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42800"/>
            <a:ext cx="6999480" cy="18129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2549160"/>
            <a:ext cx="34156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5120" y="2549160"/>
            <a:ext cx="3415680" cy="7194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6307200"/>
            <a:ext cx="34156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CFB-50E9-4D7D-8004-16732FCA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42800"/>
            <a:ext cx="6999480" cy="18129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2549160"/>
            <a:ext cx="3415680" cy="7194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5120" y="2549160"/>
            <a:ext cx="34156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5120" y="6307200"/>
            <a:ext cx="34156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AE5-C24C-489B-8B51-59763755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42800"/>
            <a:ext cx="6999480" cy="18129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2549160"/>
            <a:ext cx="34156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5120" y="2549160"/>
            <a:ext cx="34156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6307200"/>
            <a:ext cx="6999480" cy="3431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B26-8600-4174-B495-0E607F3E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42800"/>
            <a:ext cx="6999480" cy="18129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2549160"/>
            <a:ext cx="6999480" cy="7194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93840" indent="-3938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47800" indent="-3254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2635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833480" indent="-2649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355840" indent="-2588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355840" indent="-2588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355840" indent="-25884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800" y="9931320"/>
            <a:ext cx="1812960" cy="7603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7160" y="9931320"/>
            <a:ext cx="2462040" cy="7603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5320" y="9931320"/>
            <a:ext cx="1812960" cy="7603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6160"/>
                <a:tab algn="l" pos="2092320"/>
                <a:tab algn="l" pos="3138480"/>
                <a:tab algn="l" pos="4184640"/>
                <a:tab algn="l" pos="5230800"/>
                <a:tab algn="l" pos="6276960"/>
                <a:tab algn="l" pos="7323120"/>
                <a:tab algn="l" pos="8369280"/>
                <a:tab algn="l" pos="9415440"/>
                <a:tab algn="l" pos="10461600"/>
              </a:tabLst>
            </a:pPr>
            <a:fld id="{2A37802D-41BB-4EE3-B401-A3AD9E96418D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3:23:56Z</dcterms:created>
  <dc:creator>Saltmedia</dc:creator>
  <dc:description/>
  <dc:language>en-US</dc:language>
  <cp:lastModifiedBy>Saltmedia</cp:lastModifiedBy>
  <dcterms:modified xsi:type="dcterms:W3CDTF">2006-04-03T03:40:04Z</dcterms:modified>
  <cp:revision>6</cp:revision>
  <dc:subject/>
  <dc:title>Slide 1</dc:title>
</cp:coreProperties>
</file>